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B64-AFA4-4A15-87B3-D55B6585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364-9C43-4558-B569-C185AF54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0F2-9BE9-4D3A-8EE6-3E46D7AC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C06-508D-4516-8054-8FE3F0DB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0AF-753E-4EDA-B3BF-F698F1C5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BBE6-00B2-4B3D-9FF4-4D17CBA2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4F4-74B7-4CBE-BA02-A694757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726F-57BB-44DD-8939-1D170F24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C12C-B710-4ED9-86E5-308E335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809-A40C-4DDB-9F3D-3A882A5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2F7-3E91-4EC2-9B42-4F6CA3E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22A-FE0C-49DD-84D3-06B0444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94F3-6353-4916-A713-01F0E6D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2B3-2D9F-411A-8579-041DA98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5F65-2D72-4B88-9064-4F41EAD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5BAC-8C71-4DC9-AD6D-95D98D73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A97-0F0B-431A-8C50-8AB12589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752-C699-420D-88D7-551287B0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9EF-28BE-4F5E-8044-8998725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876-917E-4E92-9308-9275A7B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EEA-0DD9-4284-ABA8-5144015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C36-F6E0-45B9-8FD8-F4CEED9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269-3B3E-4C6D-B094-C756A67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C3B-4ACD-46B8-AD43-D813CF7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2EBB-0EFC-485F-BE88-46AEC68F27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0C1D-2DA2-4612-A824-4780F9408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 Black"/>
              </a:rPr>
              <a:t>Ecology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46280" y="1981080"/>
            <a:ext cx="38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daptations that make cacti successful in the des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me with greatest species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rm used to describe the top layer of frozen soil in the tund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mber of organisms in a population an ecosystem can indefinitely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population growth seen when resources are plentiful and no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curve that represents population growth when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ganisms that start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me for stable ecosystem reached at the end of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ose, long-term relationship between 2 or more spec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humans and e-coli in intesti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03320"/>
          <a:ext cx="9144000" cy="6754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giraffes and oxpeck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remora and sha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a tick and a hu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organisms of the same species that live in the same area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populations living in an ecosystem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hysical location where an organism l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 an organism lives; what it eats; when it reproduces; who it mates wi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other term for decompo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cess by which C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obtained from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ning of fossil fu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level of the pyramid that has the highest amount of 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o ammo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 ways carbon is returned to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ammonia back to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52560"/>
          <a:ext cx="9144000" cy="7083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rophic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ying ca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i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i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nential growth (J cur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u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u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niv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y coating (prevents water lo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-cur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u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ogen fix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or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oneer organis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s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, combustion, forest fi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afr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ax commun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sit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’t need to know this que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itr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that is lost with each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name given to animals that only eat other anim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term for the total weight of living organisms within a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lost by the 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f the available energy in the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s 10,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me most common in the Midwestern United St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trees whose branches can bend to resist weight of s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8:35:08Z</dcterms:created>
  <dc:creator>jayoig</dc:creator>
  <dc:description/>
  <dc:language>en-US</dc:language>
  <cp:lastModifiedBy>jayoig</cp:lastModifiedBy>
  <dcterms:modified xsi:type="dcterms:W3CDTF">2010-11-05T13:24:11Z</dcterms:modified>
  <cp:revision>6</cp:revision>
  <dc:subject/>
  <dc:title>Ecology</dc:title>
</cp:coreProperties>
</file>